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AD1-A336-46F7-A1B1-0F5A378C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6DA-86E5-4D26-94D3-F4396167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71D8F-6F8E-4933-ABE1-43078D04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98631-7981-4700-A7BB-749D7862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052EB-3B88-452C-A80B-D0404ED6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180DB-7D40-418C-8E52-B1597D3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1578E-01FF-48C6-B46B-C662453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0C1A9-BE43-4485-B663-C957F630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B30A6-224D-4B4D-9052-EB923280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2711F-1E6A-4C70-8D1A-25CAA71F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D2ECB-2824-4FA2-B208-8A2041AB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20445-5A60-4E60-A323-C7D91E46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5F5-375C-4868-819D-0A5FC4EF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B2100-41C5-4324-B8EC-0E11E930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4983C-740C-4B61-8949-4A63D7F2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7AC92-5F40-4919-A768-4565B8B9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51376-C1A0-4764-91C3-1458DD10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39638-FD50-47A4-865D-835DBA0B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D2714-4395-425A-9CEB-9F86F9A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A37FB-27AA-47A9-B954-EB45AEDB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8C428-9C51-4910-8ACC-006568E2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BD674-B3A4-4FF8-8E1A-0E29E0E1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BC3F4-9E52-4CBD-9B7C-4125852B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F7E-D507-4CBF-A775-9E651AEC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D2A1E-9606-4CA3-97F9-B66BAB4E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0B82A-483D-40AF-92B2-3E412AEE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FE4E5-ACCF-42FF-8248-6B464779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1AB8D-691C-4656-9118-46303C19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A074C-EDDE-4B42-B076-536D47CA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84CF9-B578-4CD7-B394-A98392E4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216A3-8EA6-42D6-91FE-A2083CDF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01C11-C5ED-4930-A715-5B9AA742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9A725-F8C3-4520-9366-C9082DF4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20637-3133-4F1A-9224-B7CE08B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716C-DCC1-4E08-8ECD-1F5C2AFA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6D1A0-5E68-4167-B6D8-1F90D169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50703-0977-4D7C-A3ED-795058E0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A95C5-AAEE-4592-84A4-5D3862BB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53417-2C23-4548-B519-134DE790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0685E-E032-4C43-9F0F-CA0BE9BA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7B981-B1A3-46C2-AEE9-A90DA3CC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156C0-4FE1-47C1-85C4-F4099409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5C6FA-9C73-4A6F-A2C3-B6615A5A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4829F-DB46-4BD9-BF63-74E950F0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D02C1-ACBD-4D15-B750-DEA7A48A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214A-D1C3-43C6-9DFA-461E154D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3429A-2CD7-466B-B2C9-3B30E78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5EA21-EEA5-44F2-808D-8B0955AE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A8BCE-9FDB-4EAC-B6B1-9983631D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53FA9-DEB5-41A4-8C89-D2E63066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CE25A-5D87-4E97-8F3C-26D1C8F1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98F47-34B1-4525-91FB-9D28759A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96547-9EB1-497C-94A9-E4159E07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5864D-F7BC-488E-AF4F-6131A1A5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BC946-1717-49EA-AFE4-576BE905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8321A-FEA4-48E7-B276-CDB1BD7E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EFFD-8375-44FF-85E4-25D6F671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C5EBA-9738-4C27-AA50-7E287DB9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504AA-DCA8-466A-8284-286EED9A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B4507-B186-4ACC-B0E6-6EA342D5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0F7D5-81A2-4123-9F1C-8E40BDCE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22787-129B-41F0-B209-A1E405AF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417CC-3E55-478C-824D-29CC3A0B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57CFB-95A1-49AA-9480-A8AA96FA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6BFF0-9413-41AE-931B-20016934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DD3A6-F416-46B6-AEC8-DC11E984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3564F-9CE6-4E8D-811A-BA44E8EC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71AE-220C-4231-A436-B9573412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9B06C-57AC-4BB1-8993-B6AF4F98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6B29A-E53C-4B75-B742-0DBC0869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C95A0-E28D-4DA8-9DCE-908F358C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B8A85-8926-4DB0-B646-1204376F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F0457-C9D1-4A2D-8549-9C69985E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B3980-0D8E-4FAB-BBE0-3CA655D9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9346A-51CD-4000-A314-3363114E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750DF-8B85-4191-BA85-1E4CDEFD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C3D1B-B92A-4A0B-B012-B6F6DAF8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4271E-4CD6-4FA0-9D25-1DFF5EA0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3CD0-B6E9-40BF-983A-F7F86051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ADDC8-B544-4B76-8538-9A48A4A8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F6B58-99D5-439B-A0EE-8B5CA841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078B2-A7E6-4E99-A144-C0C82426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35B6D-F432-490E-B32F-A427816A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70867-80DF-4C66-ABA2-261DF9B2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24EE6-68AC-42E7-A6D3-A8EA2F23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4B634-FF00-47ED-B896-96C71AAF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B9D0A-9E70-4E6E-9783-F6F829A9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0BD2E-6E8E-4F5B-9F7E-19F3DA8F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20FAC7-D1A8-46C4-9E95-BD32EDC2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60D6-8E27-4754-83E1-C23D3E04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A45EB-3759-4F4D-991E-8A414933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5C1E5-7822-4D01-B396-7E665A18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50078F-7B0B-4C6D-BA72-2FF64653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C771B-EDF2-4922-A428-B1BB708A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3E798-A496-4EF4-AF4B-C5DC967A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D7A47-2281-49B2-BBB6-ABB5204E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DDBDB-C570-4060-A799-ED95BE8D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C8A63-B9F4-4615-8DD2-9E2DE726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84CE3-5751-431A-A5BE-1A859255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1267E-3C02-438F-A198-80AFC109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F47A-963B-4B92-B35B-763E936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7DE3F-B172-44EF-B4B8-E155DB88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B1501-74F2-44B8-BE8A-C9BF35BC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4BAF9-12A4-4A4E-B520-F41A6E22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F0990-6053-4955-988E-6EE0A736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06D46-532C-4561-919D-3B391136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06C58-8DA9-43C7-AB7D-85B72FA4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B8132-0A2C-4D44-8412-9EE95571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817681-8737-4BA5-AE23-ECDB3544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BA15D-F8DD-493A-ABB7-871F2125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68DB2-4B99-4441-AE3F-02F8E42C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29C-AA76-4258-AC3F-441E7503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9483-A853-4E11-ABA1-654CEEFC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0A198-5730-4DBE-95AB-A3C15B83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81CE9F-3BD3-4AF5-9FE5-985AE11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41373-CF79-48D9-BBD6-C85FF9F4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D875B-D1F4-4397-BAA6-684A1176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15C09-FE98-403E-8EFF-13644969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7B3F58-5DCA-4D15-8E95-D959F544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15226-DC10-4892-A22D-1DF55D4E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85FE2-3EAF-4B14-90BB-3AF1B2B6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0FCB8-C434-4D54-80E2-8A48A0AE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33E511-1DB6-42B0-9C12-203B9D7C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62CA-1979-4823-A701-EFAF151C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68513-BA10-4295-A3C3-A32E09C2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C3CEA-9F1C-485D-906D-0A577C2F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4823C-4FAE-4FD7-A0F4-161674A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99443-27CA-4069-9256-3DF7B75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8CD9F-268F-4C37-8B65-81D26C7A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BCAB7F-00CE-4A11-8D21-61523AF8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E7332-644C-4C75-9F49-DEA7B09B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3AD25-C532-42DB-A4FC-2E905AE1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38102-EFF0-487D-A1BC-13888899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449D2F-A18A-4BFD-8DC9-58083F91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38AA-E956-499B-8BF5-C4770C43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042485-6715-4CD3-A507-0BDB33A6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58CED-B00E-455E-8A25-C3F0AABD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A46673-8A51-4512-AAC3-5FA5A7FA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CFCE4-4E89-4724-B501-41DE40DF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E9A42-DA7E-493B-BA95-0CC45FC8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D7AC6-9346-4D5C-BA2E-88D5B935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809AA-E22C-42B9-8830-8E5E85E3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568B3-30ED-4C52-80C1-71806D47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903D0-2EF5-4B2F-9B42-52C7E72C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66EAF-57D6-42CE-B614-37316B23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8DBC-235E-480A-80B0-B8C98CF4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8CC261-8F24-4282-8F98-0BE9FDB0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CC7C7E-D9D3-412C-B744-FB6D6C82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DF623C-F8C8-474B-8E84-609BDE9B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1F2A4-A105-4F20-B241-7260B341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D568B-EEA0-4203-9F0F-7F7C33EC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EDCF5B-242D-42B0-9037-10E090F0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98845-4234-4C8D-9918-69A8FB08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5F5DF-8E96-49AD-8A07-E77C15F6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8808E6-0BC6-4D1A-B310-CB64E1E9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BD3CFE-F6F8-41BD-90F0-B74A3544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7367-91E6-4647-8E54-86F4F129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878B7B-4BD8-461D-9907-306CB214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03F05A-F098-49B0-8A00-C4A78806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35838-16F4-4734-BE97-191B0DA1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DE55E-F840-47EF-9014-1FE22FCC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0033E8-22CC-4777-8347-9CB5915D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F8C09B-161E-4880-8B3A-1626B0B6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B625CF-0573-4403-94B5-93B086B6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74C649-6C0D-4AE7-8E5B-B10A3E2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8322CE-20B6-4F76-B0DD-1CF6C505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165AA9-55B3-4381-9F1E-2F937F6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D5DA-7BF7-487F-B756-5C475FAB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4A5796-6304-44C7-B7F8-2CE372A2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A22F69-F6D4-41D1-B353-BA7D8C67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E0199-6B39-4E16-ABF2-AB35FF69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878A32-8FD6-4DF8-B47A-BD0F09E7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DB8C2C-BF33-4C11-A16A-D47D9CA2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1FD69D-15E8-4DD9-A981-157EF268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B746FC-0CF8-4BF5-AE82-78FE5118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085E67-3051-4F3F-B146-3BFE3ED1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385315-C7FC-416C-B025-537D1441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4A63E4-416C-4BB5-9FF7-A403740B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BD1A-F94C-4CFD-9534-41A329E8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63ECFC-A900-437C-A389-58BCB35A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905DA2-8438-40B3-9EBA-AFF4474A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FFD5B7-76C9-43DC-A6EE-D2353F72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760DC0-B284-4AC1-91FE-6434E2C5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BE3EF-1E03-4366-B54E-BC146361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CB0BD6-F15A-4E55-BD16-4CE50976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1EBEA2-149F-4DB0-B3D3-D35DA8B3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E519BE-7A48-48DE-AEBD-A4243650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BBE617-4B7B-4E4E-B28F-3F2A0C0D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628124-0163-48E9-894D-39C8521D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2D07-08B9-4ECE-9620-520CA36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4BEB85-091C-4D55-A581-355BEFDA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BB0D98-6580-4B97-BA71-D8611700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25C328-3FE1-4F9B-93FF-CE200BEC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66B89B-11D9-4B01-85B0-0AE7FB01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4D45B7-BB2E-4482-BCB9-3FFEBF4F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C5864B-35D0-45B9-B623-83061B0A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939172-1F23-49DF-8604-839B9CC1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4E64-3E3C-4534-99AA-33670F0F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73D53-4B64-4192-9554-7DF1A19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166-8B33-4D51-8EC6-AF5C29B5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E6F1-EBC5-4115-AE9F-7616AFD7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9E51-81C9-4DC2-82A8-5C3033A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122D3-25FD-4DF6-A21D-5EA84849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4504-03C7-4BF3-9AFF-7A3AB9B0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A54B-EB5B-4216-84FC-D6EF69E2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CA416-018A-4259-A0E7-976D6F9F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5455-3786-441C-B083-49EC3ED3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3CFC6-497C-4A07-9BA3-7C66B1DF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EA57F-DE7B-45EC-9753-FB8F5D80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3375-7FEA-4D69-B9C5-82F32D42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B58-675B-4BE9-A91E-5F9F3435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788B-307D-43FA-A821-E66D4F2E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2A736-953B-4697-9515-9623B5D2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40A41-F206-4FBD-B06E-5D9A8A13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A8707-027A-49DF-B05C-B498FFF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E093F-7A07-4387-89B6-E67BE002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F12D-DB04-468A-BC9B-0ADE4DAD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F294B-4E85-45E1-ABF7-A4DD617F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7A137-A546-4150-9FEA-63A2C2E4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5FBD-C08F-4B04-A026-2E682602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539DB-11EB-49BD-93E5-F4408FD4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D24-FA17-4078-8FCF-839A7F24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36C9-2DEC-4E89-AFD4-6CFE3AB9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14398-5F19-4A68-B84E-C11EDF3D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9E0D9-BA79-47D2-AF6B-A0F02F5F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CCC42-EC60-41F5-9C1F-2B7C7747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13AE-6D7C-4038-B986-2B03006E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D6733-7BEB-47BF-BF98-58DD926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84BBC-191F-407F-8CD3-FC8B653C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B497-2BBD-4351-AE95-5BBF6888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5ECE5-9D72-4B06-AB77-B22461A1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F004D-A660-487E-BEAC-3305CC41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2C6-A22F-45DF-9F40-38DF1A71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17B31-2EAF-429D-BD4E-6DF2596D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9EA19-1572-46BA-94CC-96E35D56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73ED7-14FA-42E2-9C3D-81ADA22C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EE0A1-39AC-4DBD-B2FB-227F3AF2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C3D0-DD1D-42C8-B3B2-5FD4D0B9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FA20-589C-497B-955A-468322F2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DE1A1-C074-490D-80E7-C0F66B05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11373-B913-4C62-9D67-F055FEC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AF46C-3FFE-433C-A076-A07B109A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44AC6-F13A-48A6-8FE3-9D14091A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258-B288-4AC2-9486-4D12BEF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725C7-5555-4EDD-BEC6-D9AEBDB2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12097-1B7A-4917-A214-CED27FD7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442B8-127F-4DFE-BBD0-3097C2A5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83766-8CE8-4859-BC43-0CF4F478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A6B10-CC1B-42A8-9290-10B1F1F6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C6987-00C1-413F-AF62-431550FF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A468B-41AC-4AF2-BFAC-653FCE08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52B27-3460-400E-8825-D503F9AB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6FBA9-5D0D-44FC-BADA-2DAE64D8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9FE85-8700-4AA1-A254-34FB3809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DD6-F46A-4D1F-960F-7631CEDC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6DAD1-9177-4ABC-8818-B696BAE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68B7D-C1E0-4827-A1FE-F90AFB7F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0B623-37A2-40D7-9781-E4A8CC07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5425F-7F61-4981-886B-E9FDE859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3DEB4-14A1-4C18-B49B-EB353524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1B2C9-CDD3-496B-BE38-FB6BCD33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6CEC7-F12D-4D0E-85A0-CE091E07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50CD0-E51F-43B8-A636-5230D050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00E94-B0DF-4B4C-89C6-3D252360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427CE-039B-40E4-AC67-EA3015ED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F4B-D61D-49BD-943C-E9624579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4D9AB-B829-41CC-B135-412667B4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697E6-7FB5-4F46-B8B6-514154F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26AA7-B2C6-46F2-B729-9713F39F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D86E6-C8AF-4429-8E49-2649A883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8290F-2EBB-48E6-9F15-3ABBC671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65FB0-B6C1-43CC-A874-88550EDF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9E61-7E76-43D1-A23B-B11018F0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899A1-8502-48FC-BA5B-684E87AF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CC580-F79E-4B02-BABE-889D7F74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0BE27-AF61-46C2-893A-2A1EC479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A298-B52A-4F07-90C3-D9FD83E706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0ED0-E2F8-4747-942F-AAF47120F5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7A04-D5A8-4306-BF9F-0AD7BECEAB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B588-D604-4DC2-9D3C-A4F8F3E0E9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70E8-D415-4868-AE84-C518F1B110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2474-79C0-47DF-AE11-4C3A991A0C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0D8F-6810-4D0A-89D9-FE94619879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2837-ECF0-45B6-B931-149074F20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6A1E-4B6E-4C61-ADEB-A61EF998D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3DAF-E910-415A-B402-DB2A69D609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98D2-DA63-4C36-B015-8507556B21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55CF-CC85-4586-8C53-84CB68589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42F4-D885-4E63-AC2B-8FD5FE7E99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EAE6-D445-4E98-BA59-3725B4647F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16B5-F30B-488B-8EB2-732DD7347E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4B32-85AF-4AB8-A09E-5D1B3CE0F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E2EB-36CA-41BB-883A-EE9B5DE993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9097-3F12-4CBC-A15C-A8A6F4F8F6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7EB0-C86A-43C9-805C-6266F7242B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49AE-07BC-46B0-9A7A-3B6F628A9C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5DB2-5235-4553-B3C0-75723C41E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3CA5-688C-4079-B817-F1DE1D72EC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900A-7589-48F2-A3C1-3225BDC506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FB21-7485-4BCC-87BA-410CD90EC6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DD94-18D7-4C42-9FE5-BCBD61F8B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1A4B-2D1B-4F74-AC05-9AF5F5217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73F-4E28-4AF3-87E9-93BEF75414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11CF-E998-4089-B021-D74F7CED67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831C-BE5A-4308-8DA7-6EF1A4EC30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3CC1-B45A-4957-B640-833F352B07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30E-D93F-41A8-AF50-2417A894F2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DB06-5919-42D7-9146-40ACBA8093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3AC7-6AB8-4928-80C9-6F0747CFF2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C929-9BDC-4AAF-B5AF-934F4C86BF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CE62-F83D-441D-B208-C54D26218B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F5B6-9D20-4E48-8E4F-479B574031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3639-BD8E-4B6C-AF13-782C6E9B4E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3DC8-7D14-4A58-8F45-6B19E32275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5B5E-725C-4BFB-A775-9D60355AE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C291-BDDD-4957-997C-21C8027432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A8B8-52B8-437D-B5DA-2880CE21D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F66B-3949-4A2F-AE52-8475CCD896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147760" y="2833560"/>
            <a:ext cx="48484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85760" y="1038240"/>
            <a:ext cx="87710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66760" y="650880"/>
            <a:ext cx="8350200" cy="313056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1330200" y="3718080"/>
            <a:ext cx="65930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138240" y="885960"/>
            <a:ext cx="8866080" cy="53528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532764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1042920" y="2982960"/>
            <a:ext cx="5327640" cy="406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5148360" y="3645000"/>
            <a:ext cx="194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5"/>
          <a:stretch/>
        </p:blipFill>
        <p:spPr>
          <a:xfrm>
            <a:off x="2484360" y="4351320"/>
            <a:ext cx="129564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6"/>
          <a:stretch/>
        </p:blipFill>
        <p:spPr>
          <a:xfrm>
            <a:off x="6300720" y="5719680"/>
            <a:ext cx="12956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233280" y="743040"/>
            <a:ext cx="8675640" cy="53719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6012000" y="808200"/>
            <a:ext cx="1512720" cy="4060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2268360" y="1484280"/>
            <a:ext cx="122400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8172360" y="1484280"/>
            <a:ext cx="720720" cy="4064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250920" y="2162160"/>
            <a:ext cx="8497800" cy="4064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2050920" y="3529080"/>
            <a:ext cx="720720" cy="4064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7"/>
          <a:stretch/>
        </p:blipFill>
        <p:spPr>
          <a:xfrm>
            <a:off x="1258920" y="4221000"/>
            <a:ext cx="1297080" cy="406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8"/>
          <a:stretch/>
        </p:blipFill>
        <p:spPr>
          <a:xfrm>
            <a:off x="5651640" y="4221000"/>
            <a:ext cx="129672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9"/>
          <a:stretch/>
        </p:blipFill>
        <p:spPr>
          <a:xfrm>
            <a:off x="4067280" y="4883040"/>
            <a:ext cx="475272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0"/>
          <a:stretch/>
        </p:blipFill>
        <p:spPr>
          <a:xfrm>
            <a:off x="250920" y="5589720"/>
            <a:ext cx="865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152280" y="1095480"/>
            <a:ext cx="883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33200" y="1128600"/>
            <a:ext cx="88776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225360" y="527040"/>
            <a:ext cx="86947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142920" y="825480"/>
            <a:ext cx="8858160" cy="58197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8675640" cy="4064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250920" y="2017800"/>
            <a:ext cx="8675640" cy="4064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250920" y="2608200"/>
            <a:ext cx="8675640" cy="406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5"/>
          <a:stretch/>
        </p:blipFill>
        <p:spPr>
          <a:xfrm>
            <a:off x="250920" y="3184560"/>
            <a:ext cx="8675640" cy="40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6"/>
          <a:stretch/>
        </p:blipFill>
        <p:spPr>
          <a:xfrm>
            <a:off x="250920" y="3773520"/>
            <a:ext cx="8675640" cy="406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7"/>
          <a:stretch/>
        </p:blipFill>
        <p:spPr>
          <a:xfrm>
            <a:off x="250920" y="4349880"/>
            <a:ext cx="867564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8"/>
          <a:stretch/>
        </p:blipFill>
        <p:spPr>
          <a:xfrm>
            <a:off x="250920" y="4940280"/>
            <a:ext cx="867564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9"/>
          <a:stretch/>
        </p:blipFill>
        <p:spPr>
          <a:xfrm>
            <a:off x="250920" y="5516640"/>
            <a:ext cx="8675640" cy="406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10"/>
          <a:stretch/>
        </p:blipFill>
        <p:spPr>
          <a:xfrm>
            <a:off x="179280" y="6078600"/>
            <a:ext cx="86756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2:2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